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502-28B8-4AFC-A3FC-BC572B3C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EF8-7C13-469F-8377-F8163604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B47-3FB4-453B-BBFF-6F56C4BB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721-5C60-4D83-A58A-04F836E6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470-C019-4040-83C7-FD473317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B8C-610B-4788-A574-2550CF6B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0E2-A3C1-4FB6-9C92-E1BD4144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12C-B5B3-4498-80C1-C17C5FD4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67F-5166-447C-9038-AEAFB804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33A-C016-46EF-9574-5856BC59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F65-C4AA-40B5-A0C7-730A769C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92F-18F3-45A4-B633-94980286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86AA-D8CD-44DC-9454-6C1D4C096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SCREAM.WAV" TargetMode="External"/><Relationship Id="rId3" Type="http://schemas.microsoft.com/office/2007/relationships/media" Target="file:///tmp/home/.config/libreoffice/4/user/gallery/SCREAM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file:///tmp/home/.config/libreoffice/4/user/gallery/Drumroll.wav" TargetMode="External"/><Relationship Id="rId4" Type="http://schemas.microsoft.com/office/2007/relationships/media" Target="file:///tmp/home/.config/libreoffice/4/user/gallery/Drumroll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aunted%20house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971800" y="0"/>
            <a:ext cx="3962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old 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505320" y="533520"/>
            <a:ext cx="14097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8120" y="4876920"/>
            <a:ext cx="300996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done by jourdai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1" name="Mouse" descr=""/>
          <p:cNvPicPr/>
          <p:nvPr/>
        </p:nvPicPr>
        <p:blipFill>
          <a:blip r:embed="rId1"/>
          <a:stretch/>
        </p:blipFill>
        <p:spPr>
          <a:xfrm>
            <a:off x="3276720" y="2971800"/>
            <a:ext cx="2593800" cy="1679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9528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752480" y="457200"/>
            <a:ext cx="4572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 the old ,old housewas an old,old do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" name="Door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2922480" cy="466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5120" y="1447920"/>
            <a:ext cx="457200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ehind the old,ol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or  were som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ld,old step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8" name="Stairs" descr=""/>
          <p:cNvPicPr/>
          <p:nvPr/>
        </p:nvPicPr>
        <p:blipFill>
          <a:blip r:embed="rId1"/>
          <a:stretch/>
        </p:blipFill>
        <p:spPr>
          <a:xfrm flipH="1">
            <a:off x="2514240" y="2590920"/>
            <a:ext cx="3328920" cy="3578040"/>
          </a:xfrm>
          <a:prstGeom prst="rect">
            <a:avLst/>
          </a:prstGeom>
          <a:ln w="0">
            <a:noFill/>
          </a:ln>
        </p:spPr>
      </p:pic>
      <p:pic>
        <p:nvPicPr>
          <p:cNvPr id="49" name="Footsteps" descr=""/>
          <p:cNvPicPr/>
          <p:nvPr/>
        </p:nvPicPr>
        <p:blipFill>
          <a:blip r:embed="rId2"/>
          <a:stretch/>
        </p:blipFill>
        <p:spPr>
          <a:xfrm>
            <a:off x="3733920" y="5257800"/>
            <a:ext cx="2570040" cy="1209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525780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590920" y="609480"/>
            <a:ext cx="312408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at the top of the old,old 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steps was an old,old old,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hes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Old%20chest" descr=""/>
          <p:cNvPicPr/>
          <p:nvPr/>
        </p:nvPicPr>
        <p:blipFill>
          <a:blip r:embed="rId7"/>
          <a:stretch/>
        </p:blipFill>
        <p:spPr>
          <a:xfrm>
            <a:off x="2133720" y="259092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257800" y="320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47920" y="457200"/>
            <a:ext cx="65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 the old,old chest were some old,old,ha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5" name="Hats" descr=""/>
          <p:cNvPicPr/>
          <p:nvPr/>
        </p:nvPicPr>
        <p:blipFill>
          <a:blip r:embed="rId1"/>
          <a:stretch/>
        </p:blipFill>
        <p:spPr>
          <a:xfrm flipH="1">
            <a:off x="2133720" y="3429000"/>
            <a:ext cx="3504960" cy="156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286000" y="533520"/>
            <a:ext cx="421956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under the  old,old, hat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n old,old b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8" name="Box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2971800" cy="2608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24852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514600" y="1523880"/>
            <a:ext cx="3614760" cy="81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 the old,old b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as an old,old ke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1" name="Key%201" descr=""/>
          <p:cNvPicPr/>
          <p:nvPr/>
        </p:nvPicPr>
        <p:blipFill>
          <a:blip r:embed="rId1"/>
          <a:stretch/>
        </p:blipFill>
        <p:spPr>
          <a:xfrm>
            <a:off x="223920" y="2128680"/>
            <a:ext cx="8696160" cy="2600640"/>
          </a:xfrm>
          <a:prstGeom prst="rect">
            <a:avLst/>
          </a:prstGeom>
          <a:ln w="0">
            <a:noFill/>
          </a:ln>
        </p:spPr>
      </p:pic>
      <p:pic>
        <p:nvPicPr>
          <p:cNvPr id="62" name="Key%202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439120" cy="2600280"/>
          </a:xfrm>
          <a:prstGeom prst="rect">
            <a:avLst/>
          </a:prstGeom>
          <a:ln w="0">
            <a:noFill/>
          </a:ln>
        </p:spPr>
      </p:pic>
      <p:pic>
        <p:nvPicPr>
          <p:cNvPr id="63" name="Key%201" descr=""/>
          <p:cNvPicPr/>
          <p:nvPr/>
        </p:nvPicPr>
        <p:blipFill>
          <a:blip r:embed="rId3"/>
          <a:stretch/>
        </p:blipFill>
        <p:spPr>
          <a:xfrm>
            <a:off x="223920" y="2128680"/>
            <a:ext cx="869616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95480" y="609480"/>
            <a:ext cx="3429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uddenl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ppeare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 .....................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43200" y="228600"/>
            <a:ext cx="280044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ghost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7" name="Ghost" descr=""/>
          <p:cNvPicPr/>
          <p:nvPr/>
        </p:nvPicPr>
        <p:blipFill>
          <a:blip r:embed="rId3"/>
          <a:stretch/>
        </p:blipFill>
        <p:spPr>
          <a:xfrm>
            <a:off x="3429000" y="2209680"/>
            <a:ext cx="3451320" cy="402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43828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0:32:33Z</dcterms:created>
  <dc:creator>4glenb2</dc:creator>
  <dc:description/>
  <dc:language>en-US</dc:language>
  <cp:lastModifiedBy>4glenb2</cp:lastModifiedBy>
  <dcterms:modified xsi:type="dcterms:W3CDTF">2009-10-14T10:38:51Z</dcterms:modified>
  <cp:revision>1</cp:revision>
  <dc:subject/>
  <dc:title>PowerPoint Presentation</dc:title>
</cp:coreProperties>
</file>